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F6B9-BF46-48FF-AE07-B0FC3DD4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2A8F-B4A0-4D63-BF55-A5F7A10B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1590-EC1D-4D97-B39A-23A3AE97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D0B0-DFCB-4680-9C77-CB775FAC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7DE3-DA16-4B3C-96D4-06FA0F75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42FC-53A2-47BF-BA17-61A77ADC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D43-5686-4672-A2D9-80A18F83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26D3-DDF3-43C0-BB1D-B83B0E8F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3A7-ED6A-4733-9908-3A51064D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8DD7-DCC5-432B-8EF1-BAE1F818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BE42-F1B4-4244-8C47-A1E22BDD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5DF5-FD3A-4BB9-83DB-C878FFE4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9745-9235-4375-994A-D65034D09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798120" y="345960"/>
            <a:ext cx="616392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400" spc="-1" strike="noStrike">
                <a:solidFill>
                  <a:srgbClr val="ffff66"/>
                </a:solidFill>
                <a:latin typeface="comic"/>
              </a:rPr>
              <a:t>7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Исус Христос възкръсна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Жив е сионский Цар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И на небе възлезна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над всички Господар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На ада Победител -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това ни Той яви -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и всемогъщ Спасител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на верните Сво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2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3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57600" y="411480"/>
            <a:ext cx="5106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Небесни колесници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очакват тържество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и ангели безбройни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там пеят във едно: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"Широко отворете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небесните врата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и с радост приемете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тоз славен Цар -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Христа"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9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719280" y="96840"/>
            <a:ext cx="6189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Кой е тоз Цар на слава?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Всемогъщият Господ!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Той нам свободно дава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спасение и живот.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Най-славен Той е ратник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 силен е във бран,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 Княз е, и Началник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между небесний стан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9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1051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83080" y="583200"/>
            <a:ext cx="5421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За нас веднъ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отхвърлен,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охулен и презрян,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от грешни бе осъден,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разпет и умъртвен!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Но в третий де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възкръсна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сионский славен Цар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 горе Той възлезна,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над всички Господар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9:32:40Z</dcterms:created>
  <dc:creator>TrifonTrifonow</dc:creator>
  <dc:description/>
  <dc:language>en-US</dc:language>
  <cp:lastModifiedBy>TrifonTrifonow</cp:lastModifiedBy>
  <dcterms:modified xsi:type="dcterms:W3CDTF">2005-11-23T20:10:38Z</dcterms:modified>
  <cp:revision>10</cp:revision>
  <dc:subject/>
  <dc:title>Slide 1</dc:title>
</cp:coreProperties>
</file>